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00E5-64B9-4E72-ACBE-3D75B65DC86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FBB86-B96A-4B27-A2F3-51317A05DF6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14853-E31C-4BA9-8257-7F6F494EE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9C86A-8A8A-43FF-B5FD-DFAFE50E7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AC4DD-4A92-46AF-A76C-0ACFE3140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037D9-BBA1-4985-BAAE-FAEDFA3A0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DEED8-F4F8-441C-B84F-C3A7DF9AE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F2B7B-642F-4AA3-A5BD-6010A6097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3DEE3-35D1-49F3-8764-5CB6C3937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E7A22-AAAB-46F6-B94B-DDA4EB07C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8A5F8-55FC-4AB2-827A-8BBFBC660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B60D0-871B-498D-A527-EB685C3B2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4FFC3-4293-47A0-B04A-A109BEBD2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B837C-09B1-4964-B67E-8914C9C08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A803-2050-4DB7-8514-AB14A11ED96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lient PNT Foru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Resilient PNT Forum</a:t>
            </a:r>
            <a:endParaRPr b="1"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bjective:</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proposed Forum would bring together organisations with an interest in positioning, navigation and timing (PNT) to prepare a strategy for achieving resilient PNT in support of activities across all sectors.</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ganisation:</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organisers of ENC 2014, in Rotterdam, have agreed that the Forum can be arranged at the Conference venue on the Monday before the main conference starts. Representatives of organisations from all sectors will be invited.</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lanned outcome</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 agreed strategy reflecting:</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ensus on the need for resilient PNT;</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ss-sector support for alternative mixes of system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ment to trials, if necessary, to demonstrate performance of alternative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nd facilitation for regional and international recognition, cooperation and coordination framework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0:55:20Z</dcterms:modified>
  <cp:revision>38</cp:revision>
  <dc:subject/>
  <dc:title>Slide 1</dc:title>
</cp:coreProperties>
</file>